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AC6-A4AF-4899-9E33-B21B06D5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2F3-BB65-49DA-818E-386091C4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56F-7E6F-4860-ACAD-8E903E4D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0D9-703A-426E-80A1-D7908D12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E63-4097-49F4-9F5F-4317DF61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126-03D6-4925-8182-313AF4CE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DC1-3808-494C-AEBB-75F09AD6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95A-5BAE-4B6C-A99F-CF1FDE58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115-4AB3-4B1A-85EE-BF1DE041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0445-DF58-49CD-B1C9-E173012A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710-A957-4ACA-BE4A-07A5C042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7E4-764D-4817-9A29-BB6DD497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95FC-2A2B-47BA-B619-0A0CDC53E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Устный счё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556272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 txBox="1"/>
          <p:nvPr/>
        </p:nvSpPr>
        <p:spPr>
          <a:xfrm>
            <a:off x="601992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563868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33:56Z</dcterms:created>
  <dc:creator>Шаповаловы</dc:creator>
  <dc:description/>
  <dc:language>en-US</dc:language>
  <cp:lastModifiedBy>ник</cp:lastModifiedBy>
  <dcterms:modified xsi:type="dcterms:W3CDTF">2011-11-21T12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